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912-423B-433F-BF86-58EFFD9C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638-1F9E-41BA-B45C-9BE6573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EA5-8368-4123-AC92-3FB92361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90C-6027-4309-B5F1-8A2E8FED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F4A-6EF5-4F39-A8B3-AD96176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EDA-1B6F-44D3-9BF0-FB4DEA1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D10-C2C9-4D67-AE0A-E12A155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87D-031A-4569-A796-1EB3F4E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D8D-969C-4972-89AF-CA3A1129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FB2-FA0C-440F-B9BF-B840036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F6E-7A30-4B2A-9C43-5F14451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2E7-4452-42A4-8620-B7D6A0D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90F-397F-4CCF-9441-289E22C7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1295280"/>
            <a:ext cx="5943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des ro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752480"/>
            <a:ext cx="7162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trou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drap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38080" y="990720"/>
            <a:ext cx="72392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ys voi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1143000"/>
            <a:ext cx="72392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 du monde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trouve 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ble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bl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14400" y="106668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énicic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truite p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219320" y="914400"/>
            <a:ext cx="6629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utur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King of Cling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990720" y="91440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tères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rre des Etoiles”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143000" y="15238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99072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cie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teress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mine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oc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914400" y="990720"/>
            <a:ext cx="73915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inven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obe trapèz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smoking fémin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143000" y="990720"/>
            <a:ext cx="6934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te archéolog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ortes du dés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mode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a Place Mohamed V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066680" y="762120"/>
            <a:ext cx="6705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entre cultur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relig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e des plus vi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dinas du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990720"/>
            <a:ext cx="723888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ois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ospital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14400" y="1066680"/>
            <a:ext cx="73915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joli petit p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climat d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762120" y="1143000"/>
            <a:ext cx="76197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ique la pl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pulaire dans  le Maghr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943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ni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1447920"/>
            <a:ext cx="67053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et pays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usique l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pulaire a origi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106668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hant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lg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Mon Amie La Ros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143000"/>
            <a:ext cx="72392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teuse d’orig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rbère qui s’oppo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 famille traditionnal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762120" y="91440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2 chan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us populaires de raï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la sem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nv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rrang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143000" y="121932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 mar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tato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bonh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066680" y="114300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uisi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fê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06668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mari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llés la sem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pour la bénedic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signer les papiers offici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g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l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éa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byle 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arb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pareil?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Maghr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 de 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lé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vant  Jd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byle ou Arab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1066680"/>
            <a:ext cx="7315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ou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066680" y="137160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zarb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o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219320" y="114300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1143000"/>
            <a:ext cx="6705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p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762120" y="990720"/>
            <a:ext cx="7467480" cy="518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keutr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990720" y="1143000"/>
            <a:ext cx="7162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914400" y="1066680"/>
            <a:ext cx="74674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dema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mariage 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la cérémon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990720" y="914400"/>
            <a:ext cx="73911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 sur le doig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montrer qu’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mar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 sur le doig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demande e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regardent la cérémon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signent les documents offici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érifier l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43000" y="1066680"/>
            <a:ext cx="69343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gér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us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371600" y="1600200"/>
            <a:ext cx="6095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an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Nadia Tuén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écrit sa prem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ection de po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143000" y="12952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tasha Atl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it son déb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chant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990720" y="1219320"/>
            <a:ext cx="70866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rigine de Dju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où elle a form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groupe Djur Dju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838080"/>
            <a:ext cx="7010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ll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Mosqu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im a off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arent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asmin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im a offert à Yasmina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nouvelle fianc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0666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emande e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le  2 mois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1430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it du hen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ux jours av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914400" y="114300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Vér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télépho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sa m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95280"/>
            <a:ext cx="7162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n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ch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il es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orig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990720" y="10666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hab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où habi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ère de Vér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90720" y="990720"/>
            <a:ext cx="73152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nclusion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ère sur l’orig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Rach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066680" y="990720"/>
            <a:ext cx="7010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a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m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ironiqu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nord de l’Af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83808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région en Alg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uvernemen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ide les jeu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igrés maghréb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106668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lgérie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origine europée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ont dû quitter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après la Gu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 très utili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immigr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abes (un pe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éjoratif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838080" y="4038480"/>
            <a:ext cx="7620120" cy="20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a Guerre Algérien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b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gé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siq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i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and est-ce qu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lgérie a gagn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n indépendanc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uf c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xante-de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10-12T16:38:13Z</dcterms:modified>
  <cp:revision>99</cp:revision>
  <dc:subject/>
  <dc:title>No Slide Title</dc:title>
</cp:coreProperties>
</file>